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3936-0E21-429B-B9AD-659B015A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7318-3613-49E0-986A-2E5DADCA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74A9-C230-4BED-9953-C8B9D1BA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ABE8-260D-47A5-BDA4-FF6F8C1A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FD31-7393-46CA-8274-6FD4DA36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97ED-82E2-4FC2-92B1-DC45A5D2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DF22-81B5-43EF-913A-74116D28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9CA8-953D-43BA-996F-A4E7918C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A7ED-A5DC-4EC6-ADF8-29D5E536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0560-2B8D-4814-BCBD-73E9E397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2FAD-A1AF-43E0-A85E-50A8914E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D202-81AD-48E0-86D4-4F9C4064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1A04-3B19-4175-AE5F-5F01A03A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DA71-EF33-489B-B5EC-0033CC25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100E-6D23-47F0-90CB-EA2AE090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0EF4-99B9-4D93-A873-CC4C62E8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0F62-9A61-4D14-88A1-D0DBFB72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1EB-32FD-402F-A79D-4C9F8FF9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35A2-85AD-40DD-934E-1E06E0D1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769D-1286-4A1F-856F-4A0684BE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76F7-151A-4F1D-8491-63BAF19B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E1D7-51F4-4624-98F9-B58BD022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FBFE-FAC7-4B7B-8842-0B5FEE66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956-B631-4E61-BC97-DFFACCDB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DD3C-514D-4A10-B88C-5A497030AF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82B8-05DF-445E-9218-8BECF27FDA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lanmon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228600"/>
            <a:ext cx="8610480" cy="693432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b7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Pocket Diaper</a:t>
            </a:r>
            <a:endParaRPr b="0" lang="en-US" sz="1800" spc="1" strike="noStrike">
              <a:ln w="12600">
                <a:solidFill>
                  <a:srgbClr val="ffffb7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4876920"/>
            <a:ext cx="327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juan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7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b-22-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001000" y="4495680"/>
            <a:ext cx="5335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427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Chelsea"/>
          <p:cNvPicPr/>
          <p:nvPr/>
        </p:nvPicPr>
        <p:blipFill>
          <a:blip r:embed="rId1"/>
          <a:stretch/>
        </p:blipFill>
        <p:spPr>
          <a:xfrm>
            <a:off x="304920" y="0"/>
            <a:ext cx="4572000" cy="4255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Lanmon"/>
          <p:cNvPicPr/>
          <p:nvPr/>
        </p:nvPicPr>
        <p:blipFill>
          <a:blip r:embed="rId2"/>
          <a:srcRect l="3139" t="-6435" r="71748" b="0"/>
          <a:stretch/>
        </p:blipFill>
        <p:spPr>
          <a:xfrm>
            <a:off x="5562720" y="2362320"/>
            <a:ext cx="3581280" cy="3962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4419720"/>
            <a:ext cx="6248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Lany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2/28/2011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web.mit.edu/invent/iow/lanmon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 Black"/>
              </a:rPr>
              <a:t>Invention: Pocket Diap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his invention got its name because it has a pocket</a:t>
            </a: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Everything need for a diaper change was ad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This invention went to the National Invention America and took 1</a:t>
            </a:r>
            <a:r>
              <a:rPr b="0" lang="en-US" sz="24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pl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Since the invention was success in 1994 at age 8 she joined lengthy tradition of female American invento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 invention has a single-use powder puff of her own design, by making a "pillow" of powder wrapped in a dry wipe that she h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ff66"/>
                </a:solidFill>
                <a:latin typeface="Arial"/>
              </a:rPr>
              <a:t>Each diaper has a pocket, which holds a disposable baby wipe and baby-powder "puff." With all the necessary equipment in one place, baby caretakers no longer need to gather an assortment of items for a chang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Inventor: Chelsea Lanmo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She is a resident of Hampton Texas</a:t>
            </a: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She has been an inventor for seven years</a:t>
            </a: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t age five she helped her mother change her brothers diap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Her invention went threw trail and error an succeeded</a:t>
            </a: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Lanmon was invited to make a special appearance at the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1997 Emerson -MIT Awards Ceremony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in Washington, DC, where she shared the stage with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ouglas Engelhard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Gertrude Elion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66"/>
                </a:solidFill>
                <a:latin typeface="Arial"/>
              </a:rPr>
              <a:t>She won first prize, and as a result, while still in kindergarten, she was featured in numerous newspaper and magazine articles, and appeared on national television talk sh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63868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young aspiring inventors, Chelsea has this advice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25:03Z</dcterms:created>
  <dc:creator>install</dc:creator>
  <dc:description/>
  <dc:language>en-US</dc:language>
  <cp:lastModifiedBy>install</cp:lastModifiedBy>
  <dcterms:modified xsi:type="dcterms:W3CDTF">2011-03-11T18:30:56Z</dcterms:modified>
  <cp:revision>15</cp:revision>
  <dc:subject/>
  <dc:title>Slide 1</dc:title>
</cp:coreProperties>
</file>